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C64-0ED3-414C-B660-6D1769A9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EC7-5884-4463-821D-7F326BE4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433-54DC-459D-9EC4-DAC49E24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1F8-A4AD-435C-A0C4-4B68675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75D-D6AA-42F4-ACD9-85E3011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8D2-A286-44E0-B200-25E4394F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2A0-5B50-4149-9FF7-B14A53B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C8A-F712-431F-8718-02A0FC4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35B-A616-4BCE-ABC8-091924F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41A-4A2F-4C5A-BD4A-C198E47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8C5-1940-4EC9-81DA-C0020AC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F5E-021E-433C-929F-53CE6333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08B-4665-42E7-AAFA-2A0FD219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654/Morgan_de_Avalon/morgan_le_fay.jpg&amp;imgrefurl=http://secuestradoraenamorada.blogspot.com/&amp;usg=__q_RK8ArNMS6NJVAv9zgHurkxFQs=&amp;h=419&amp;w=300&amp;sz=18&amp;hl=en&amp;start=34&amp;um=1&amp;tbnid=7KQxS-kAu_mOFM:&amp;tbnh=125&amp;tbnw=89&amp;prev=/images%3Fq%3Dmorgan%2Ble%2Bfay%26ndsp%3D20%26hl%3Den%26rlz%3D1T4RNWN_enUS310US220%26sa%3DN%26start%3D2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annas-art.com/art/MorganLeFay1.jpg&amp;imgrefurl=http://www.johannas-art.com/legends_morgan.php&amp;usg=__EZl2TALkcMqLFSmaEjtu0XOaf5o=&amp;h=516&amp;w=450&amp;sz=55&amp;hl=en&amp;start=3&amp;um=1&amp;tbnid=MQ3Ow_di8n_70M:&amp;tbnh=131&amp;tbnw=114&amp;prev=/images%3Fq%3Dmorgan%2Ble%2Bfay%26hl%3Den%26rlz%3D1T4RNWN_enUS310US22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ir-lancelot.co.uk/images/Morgan-le-fay.jpg&amp;imgrefurl=http://www.sir-lancelot.co.uk/morgan-le-fay.htm&amp;usg=__NHrJCqWzC6tRFouNOlRSDUe7kLk=&amp;h=599&amp;w=422&amp;sz=55&amp;hl=en&amp;start=4&amp;um=1&amp;tbnid=MJxZu6cWIevu2M:&amp;tbnh=135&amp;tbnw=95&amp;prev=/images%3Fq%3Dmorgan%2Ble%2Bfay%26hl%3Den%26rlz%3D1T4RNWN_enUS310US220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ybritishkingdoms.com/bios/images/morgan_le_fay.jpg&amp;imgrefurl=http://www.earlybritishkingdoms.com/bios/morgan.html&amp;usg=__PmHR0z6M2ST6eOgb_Cd4yvrZ-T8=&amp;h=400&amp;w=269&amp;sz=55&amp;hl=en&amp;start=1&amp;um=1&amp;tbnid=kzXDAEupP3gl5M:&amp;tbnh=124&amp;tbnw=83&amp;prev=/images%3Fq%3Dmorgan%2Ble%2Bfay%26hl%3Den%26rlz%3D1T4RNWN_enUS310US220%26sa%3DN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elfwood.com/art/n/i/nixjim13/ncadetmorgan.jpg&amp;imgrefurl=http://www.elfwood.com/~nixjim13/Morgan_Le_Fay.3089485.html&amp;usg=__mSzwc4aTeZU7M2bAnv5SjtdtODo=&amp;h=700&amp;w=501&amp;sz=79&amp;hl=en&amp;start=13&amp;um=1&amp;tbnid=-rEdBCYR2aMZBM:&amp;tbnh=140&amp;tbnw=100&amp;prev=/images%3Fq%3Dmorgan%2Ble%2Bfay%26hl%3Den%26rlz%3D1T4RNWN_enUS310US220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annas-art.com/art/MorganLeFay.jpg&amp;imgrefurl=http://www.johannas-art.com/gallery_legends.php&amp;usg=__WNHGDK_gIpm27OYMOc5Ny3bYZm0=&amp;h=498&amp;w=352&amp;sz=55&amp;hl=en&amp;start=12&amp;um=1&amp;tbnid=RWspZRo2tGrDUM:&amp;tbnh=130&amp;tbnw=92&amp;prev=/images%3Fq%3Dmorgan%2Ble%2Bfay%26hl%3Den%26rlz%3D1T4RNWN_enUS310US220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1.ioffer.com/img/item/912/929/4/1.jpg&amp;imgrefurl=http://www.ioffer.com/c/Other-1013268&amp;usg=__bacWXoV6fXQ4R1YqgTeOCjSCLGo=&amp;h=265&amp;w=283&amp;sz=15&amp;hl=en&amp;start=19&amp;um=1&amp;tbnid=xiC93x6Wmav9wM:&amp;tbnh=107&amp;tbnw=114&amp;prev=/images%3Fq%3Dmorgan%2Ble%2Bfay%26hl%3Den%26rlz%3D1T4RNWN_enUS310US220%26sa%3DN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rvel.com/universe3zx/images/thumb/2/2a/Morgan_lf.jpg/440px-Morgan_lf.jpg&amp;imgrefurl=http://marvel.com/universe/Morgan_Le_Fay&amp;usg=__YUTT5azBepgZgjG9JvyTekGaeX8=&amp;h=312&amp;w=440&amp;sz=33&amp;hl=en&amp;start=11&amp;um=1&amp;tbnid=jagJSv0JGzVj3M:&amp;tbnh=90&amp;tbnw=127&amp;prev=/images%3Fq%3Dmorgan%2Ble%2Bfay%26hl%3Den%26rlz%3D1T4RNWN_enUS310US220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1st-art-gallery.com/thumbnail/142694/1/Morgan-Le-Fay.jpg&amp;imgrefurl=http://www.1st-art-gallery.com/Sir-Edward-Coley-Burne-Jones/Morgan-Le-Fay.html&amp;usg=__AGyokCIxNVkvG8e_hZRaPhQ1VEI=&amp;h=600&amp;w=294&amp;sz=33&amp;hl=en&amp;start=16&amp;um=1&amp;tbnid=T15r0f0jww8boM:&amp;tbnh=135&amp;tbnw=66&amp;prev=/images%3Fq%3Dmorgan%2Ble%2Bfay%26hl%3Den%26rlz%3D1T4RNWN_enUS310US220%26sa%3DN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752480"/>
            <a:ext cx="578664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rgan Le Fa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described as a giver of healing ointments, but the lady is usually portrayed as a wicked Enchantress who learned her initial mysterious skills from her corrupt education in an early Christian nunn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267080"/>
            <a:ext cx="336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5600" y="129528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arlybritishkingdoms.com/bios/mor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5960" y="1676520"/>
            <a:ext cx="59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arlybritishkingdoms.com/bios/morgau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5600" y="213372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imelessmyths.com/arthurian/women.html#Morga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5240" y="251460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ingarthursknights.com/others/morganlefay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297180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ingarthursknights.com/others/morgause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6320" y="335268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itannia.com/history/biographies/mor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1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Circa. A.D 473 Circa means not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women, a queen and also a vil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half sister of King Arth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505320"/>
            <a:ext cx="3676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2160" y="1219320"/>
            <a:ext cx="4647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names for her are- Morgan in Welsh and English, Morganna in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ghter of Ygerna and first husband Gorlo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in love with the kings nephew giom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3724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1280" y="12949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gan Le Fay hated Arthur for his purity, and plotted with her lover, Sir Accolon, to steal both Excalibur and the British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her Pendragon was Morgan Le Fays step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305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ecame Guinevere's lady in waiting and fell in love with the kings nephew, Giomar, then Guinevere soon put an end to the ro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371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real name is Morgaine Le F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- Sorceress would be world conqueror, former priestess , former qu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19320"/>
            <a:ext cx="4114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rgan Le F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al Status- citizen of the fifth century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of Birth- Tintagil Castle, Gorre now part of modern Cornwal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267080"/>
            <a:ext cx="2990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step mothers name was Ig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youngest of Gorlois and Igraines daugh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143000"/>
            <a:ext cx="495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reotypical image of Morgan is often that of a villainess: a seductive, megalomaniacal sorceress who wishes to overthrow Arth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7:52:13Z</dcterms:created>
  <dc:creator>Preferred User</dc:creator>
  <dc:description/>
  <dc:language>en-US</dc:language>
  <cp:lastModifiedBy>Preferred User</cp:lastModifiedBy>
  <dcterms:modified xsi:type="dcterms:W3CDTF">2009-12-01T18:00:13Z</dcterms:modified>
  <cp:revision>34</cp:revision>
  <dc:subject/>
  <dc:title>Slide 1</dc:title>
</cp:coreProperties>
</file>